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18.png" ContentType="image/png"/>
  <Override PartName="/ppt/media/image17.png" ContentType="image/png"/>
  <Override PartName="/ppt/media/image2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C37-0097-4F88-A4CE-23688F07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C551-8734-4E4D-BFAD-49171996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F38E-58C6-4983-A873-A3627EB5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4A3F-F26F-4D17-B1B7-28929E14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68C9-A7D2-4881-A2BA-D04F8706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FD11-A313-4114-A8B8-C2126BE6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AFEC-DB88-4310-9BE2-D20883D3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71CE-37F5-4423-95B7-131041CA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00E8-7420-4311-86A3-1B74C792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7871-A63A-4A6D-922C-80586DB1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645E-63E3-45DA-80F8-D16AED1A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33FF-26F1-43EA-BAF9-19514EEE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444E-8A71-45BC-981A-4BC7CF68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8BC8-A5A1-4E1A-AC3E-F2E385D3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E451-BD5C-45E0-A242-7FFA6CDD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F0CF-C242-4706-8B81-90451336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496C-5924-4452-B01A-5BA605D0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82DE-4416-4BFE-BC98-0C616531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079-95B7-47D5-89DC-6BB5F1B3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549-77CE-4335-A1C8-8B951427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086-9C4D-4F67-9167-5887249B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0F7-69C5-423C-842F-2206DFA3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F89-B54D-4588-9FA2-28D807BA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165-1344-4869-A2F8-BF1D0296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F4EF-EC57-4C04-B702-2B5BBF6DD3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B7C3-FF87-4324-B739-AEFD4F0B8D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21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7b46d0"/>
                </a:solidFill>
                <a:latin typeface="France YU"/>
                <a:ea typeface="Times New Roman"/>
              </a:rPr>
              <a:t>МЕХАНОТЕРАПИЈА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Вакум терапија је стара преко хиљаду година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аиме, постоје записи да су стари Кинези стављаљем купица испод којих је био негативни притисак третирали одредјена обољења посебно из групе васкуларних пореме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ј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Нема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 је још 1830. гдоине кориш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а ова метода под називом “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ut massag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.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warschik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је детаљно разрадио ову методу и објаснио физиолошки нацин деловања ове терапије на организам. Основни део је стаклена купа која се поставља на одр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мент тела који се намазе парафинским уљем и помо</a:t>
            </a:r>
            <a:r>
              <a:rPr b="0" lang="sl-SI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вакум пумпе из купе се излваци ваздух и ствара се негативни притиса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 данашњих апарата кјои се користе, познат је "Васкулатор" и новијег датума "В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ац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ац терапија је најпре поцела да се примењује у Данској, да би задњих година добила знацајно место у целом свету као један битан физикални фактор у превенцији и лецењу многих обољ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о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бинација подпритиска и надпритиска повецава пумпно дејство тела тако да стимулише циркулацију крви и те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ости у ткиву, а што утице на побољшање процеса размене материја у 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лији. Експериментални радови су потврдили стварање васодилататорних материја (серотонин, хистамин). Долази до пове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не елиминације распадних продуката метаболизма. Истовремено преко рецептора козе делује се и на више  нивое централног нервног систем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32000" y="1922400"/>
            <a:ext cx="7354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ав овај процес се прати веома осетљивом електроником која је програмирана тако да мозе истовремено да регулише више разл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их подпритисака преко пумпног система у апарату. Мозе се радити са подпритиском од 0,9 атмосфера до испод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55 атмосфера које одговарају притиску на висини од око 5000 мета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еханотерапија манипулацијам</a:t>
            </a:r>
            <a:r>
              <a:rPr b="0" lang="sr-CS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ануелно истезање меких ткива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39640" y="90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МАНУЕЛНЕ ТЕРАПИЈСКЕ ТЕХНИ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ЕКСТЕНЗИОНЕ ПРОЦЕДУРЕ - ТРАКЦИЈ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3760" y="196488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ма подели по Laverniеux-а тракције се деле 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Истезањe у п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љи po м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о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a (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тикална,хоризонтална,нагибн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езање по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oll-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езање дистракционим столицама и столовима уз употребу манонме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ована истезања одређених делова кичме путем довођења болесниковог тела у одређене положа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езање у току активних кинезитерапијских вежб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ракција слабинске и вратне кичм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1" descr=""/>
          <p:cNvPicPr/>
          <p:nvPr/>
        </p:nvPicPr>
        <p:blipFill>
          <a:blip r:embed="rId1"/>
          <a:stretch/>
        </p:blipFill>
        <p:spPr>
          <a:xfrm>
            <a:off x="1447920" y="4343400"/>
            <a:ext cx="5943600" cy="196524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19"/>
          <p:cNvGrpSpPr/>
          <p:nvPr/>
        </p:nvGrpSpPr>
        <p:grpSpPr>
          <a:xfrm>
            <a:off x="1258920" y="1773360"/>
            <a:ext cx="9494280" cy="2611080"/>
            <a:chOff x="1258920" y="1773360"/>
            <a:chExt cx="9494280" cy="2611080"/>
          </a:xfrm>
        </p:grpSpPr>
        <p:sp>
          <p:nvSpPr>
            <p:cNvPr id="208" name="AutoShape 18"/>
            <p:cNvSpPr/>
            <p:nvPr/>
          </p:nvSpPr>
          <p:spPr>
            <a:xfrm>
              <a:off x="1258920" y="1773360"/>
              <a:ext cx="9494280" cy="26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9" name="Picture 20" descr=""/>
            <p:cNvPicPr/>
            <p:nvPr/>
          </p:nvPicPr>
          <p:blipFill>
            <a:blip r:embed="rId2"/>
            <a:stretch/>
          </p:blipFill>
          <p:spPr>
            <a:xfrm>
              <a:off x="2409480" y="1773360"/>
              <a:ext cx="4145400" cy="2235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СОНОТЕРАПИЈ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нотерапија подразумева примену звука у терапијске сврхе. Под звуцном енергијом подразумева се облик таласастог кретања, представљен лонгитудиналним механ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треперењем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ица материје, које се у виду згушњавања и разр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ња простире кроз гасовиту, 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 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сту средину. Брзина простирања зависи од фреквенције и таласне д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СОНОТЕРАПИЈ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71600"/>
            <a:ext cx="822960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= F *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 - фреквeн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 - талaснa дужи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 - брзина пrостiraњ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Подела механотерап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ануелна мас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пецијални облици мас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паратурна мас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хипобарицне процед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ануелне терапијске технике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(манипулациј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сктензионе процедуре (тракциј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онотерапија (инфра и ултразву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лтразву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вуцни таласи преко 16 КХз који се простиру у облику лонгитудианлних таласа изазивајуци периоде дилатације и компресије (притисак и разређење) називају се ултразвук. Биолошке ефекте ултразвука изуцавао је медју првима Похлман 1938-1950. године. Његови налази су допринели да се ултразвук широко користи у медицинској пракси. Ултразвук је откривен 1917. године од стране Лагевин-а, а прва примена у медицини датира од 1928. године када су Wоод и Лоомис приказали терапијске ефекте деловања ултразвука на цовецји организ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1280" y="1609560"/>
            <a:ext cx="8137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Ултразвук који се користи у физикалној медицини има фреквенцију 87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KHz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и таласну дузину 0,4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 Интензитет ултразвука подразумева звуцну енергију коју емитује извор ултразвука на јединицу површине и изразава се у W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. Брзина простирања ултразвука кроз неку материју зависи од еластицних својстава средине и температуре. Најв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у брзину простирања ултразвук има кроз метале - гвоз|е око 50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, кроз воду око 15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 кроз зива ткива 154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а најспорије кроз ваздух 3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 Пораст температуре средине кроз коју пролази ултразвук условљава и повецање његове брзин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808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а граници две средине са разлицитим акуст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ким отпором, ултразвук се делом прелама а делом рефлектује, што зна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 да се само један део енергије ултразвука преноси у другу средину и поб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ује даље таласање. То говори да, иако се ултразвук преноси кроз средину праволинијски, у нашем организму, због разлицитог акустицног отпора наших ткива, он се прелама и мења правац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71640" y="2230200"/>
            <a:ext cx="74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лаз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 кроз разл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те акуст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е средине део ултразв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е енергије се апсорбује и претвара у топлотну енергију. Апсорбција ултразвуцних таласа зависи од њихове фреквенције и звуцне проводљивости средине. Уколико је фреквенција в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, то је и апсорпција ултразв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е енергије в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. Применом фреквенције од 1 М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1000 К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) дубина је 2-5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, да би фреквенција од 3 М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мала продорност 1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след талaсањa средине кроз коју пролази ултразвук у фазaма згушњавaња (компресије) и разр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ња (декомпресије - дилатaције) мења се и прит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ак. Променe прит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ка су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лико 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уколико је амплитуда осциловањa 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000" y="4292640"/>
            <a:ext cx="8218440" cy="18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Честице материје које се н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у у пољу ултразву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ног осциловања имају брзину у моменту промене правца кретања која се мозе упоредити са брзином у центрифугама на 20.000 обртаја у минути. Сликовито изразено, када би запуш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од плуте за литарску флашу могао добити толико убрзање, вршио би притисак од 300 kgr/cm2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Object 9"/>
          <p:cNvGraphicFramePr/>
          <p:nvPr/>
        </p:nvGraphicFramePr>
        <p:xfrm>
          <a:off x="2700360" y="1268280"/>
          <a:ext cx="3860640" cy="28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268280"/>
                    <a:ext cx="386064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имарно физи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о деловањ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механи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 деловањ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терми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 деловањ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физикохемијско деловањ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неурорефлексно деловањ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екундарно физ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лoшко деловањ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алге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 ефека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азмоли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 ефека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тиинфламаторно деловањ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импатиколи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 ефека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бољшање микроциркулације, трофике 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генерације тки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а пропустљивост целијске мембран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ње биосинтезе беланцеви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ње мишицног тону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ње ресорпције екстравазата и продуката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ог метабол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парати и опре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5600" cy="45306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76320">
            <a:solidFill>
              <a:srgbClr val="7b46d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добијање ултразвука користе се след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извор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механ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магнетостриктивн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) електромехан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ехани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и 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агнетостриктивни 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во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еханицки извор је звуцна сирена. Перфорирана плоца се окреце неколико десетина хиљада пута у секунди око своје осе. Кроз ове перфорације на плоци пропушта се ваздух и ствара ултразвук фреквенције до 35 KH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гнетостриктивни извор је израз да се неке феролегуре у јаком магнетном пољу деформишу (магнетострикција) и на излазу ствара се ултразвук фреквенције до 175 KH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03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Облиц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остоји више методи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их покрета руку којима се изводи класи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а терапијска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. Као основни видови издвајају с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гла</a:t>
            </a:r>
            <a:r>
              <a:rPr b="1" lang="sr-CS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ђ</a:t>
            </a: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ењ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трљањ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гњецењ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лупка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вибрације</a:t>
            </a:r>
            <a:r>
              <a:rPr b="0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Електромеханички изво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3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)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ектромехан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 (пиезоелектр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) извор користи особину кварцних кристала, сењетових соли (турмалина и др. материја) да се при излагању наизмен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компресији и декомпресији на површини тих материја ствара електрицитет. Уколико сада те материје излозимо деловању високофрекевнтног електромагнетског поља (високофреквентне струје) доб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мо обрнути пијезоелектр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 ефекат и продукцију ултразвука. Фреквенција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бити и преко милион осцилација у секун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ехника примене ултразву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5600" cy="4530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4651200" y="1600200"/>
            <a:ext cx="40356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зирање ултразву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 односу на интензитет, дозе ултразвука с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еле н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слабе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,05-0,4 W/cm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средњe: 0,5-1,0 W/cm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јаке дозe: преко 1 W/cm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мпулсни ултразву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057040"/>
            <a:ext cx="7643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мпулсни ултразвук представља дисконтинуирану примену ултразвука, који се добија период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им прекидима континуираног ултразвука. Сви, данас располозиви, апарати за ултразвук имају мог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ост емитовања и константног и импулсног ултразвука. Фреквенција импулсног ултразвука нај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еш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е је 1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 однос трајања ултразв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их таласа (импулса) и паузе се кр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е у распону од 1:5 до 1:10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мпулсни ултразву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Object 3"/>
          <p:cNvGraphicFramePr/>
          <p:nvPr/>
        </p:nvGraphicFramePr>
        <p:xfrm>
          <a:off x="1187280" y="1844640"/>
          <a:ext cx="7956720" cy="376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956720" cy="37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Индикац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087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умат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 артритис, дегенеративни реуматизам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itrenova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акутра, морбус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kchterew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успорено стварање калуса (ниске дозе)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deck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трофија (ниске дозе), дерматозе (фреквенција 3 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z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неуралгије, каузалгије, разбијање каменца у унутрашњим органима (фокусирају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ултразвук), ампутациони неуриноми, морбус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unau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деловање на ганглион стелату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Контраиндикац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ошто су на ултразву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е таласе најосетљивије високо диферентоване 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лије ЦНС као и уобл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ни крвни елементи) отуда основна контраиндикација је примена ултразвука у пределу главе, медулае спиналис, гравидне материце гравидне материце и у де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ј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м узрасту.</a:t>
            </a:r>
            <a:r>
              <a:rPr b="0" lang="en-U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ватов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57200" y="2276640"/>
            <a:ext cx="3430440" cy="38541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471240" y="170028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ла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е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736320" y="2060640"/>
            <a:ext cx="16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њече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2"/>
          <a:stretch/>
        </p:blipFill>
        <p:spPr>
          <a:xfrm>
            <a:off x="4140360" y="2708280"/>
            <a:ext cx="4255920" cy="34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ватов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784080" y="2492280"/>
            <a:ext cx="3211560" cy="3608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5219640" y="2606760"/>
            <a:ext cx="3138480" cy="35240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725040" y="1916280"/>
            <a:ext cx="156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Че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љ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7055640" y="184464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рљ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3560" y="328320"/>
            <a:ext cx="81583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ватов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900000" y="2606760"/>
            <a:ext cx="3138480" cy="352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5219640" y="2690640"/>
            <a:ext cx="3062520" cy="34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2" name="Rectangle 5"/>
          <p:cNvSpPr/>
          <p:nvPr/>
        </p:nvSpPr>
        <p:spPr>
          <a:xfrm>
            <a:off x="874080" y="206064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упкање - сецк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662880" y="21337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ибр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0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Специјални облици маса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79280" y="2327040"/>
            <a:ext cx="670716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)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везивног тк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б)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перио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ц)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нервних тац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д) сегментна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0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АПАРАТУРНА МАСА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63280" y="2327040"/>
            <a:ext cx="6923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) Пнеумо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- синкардијал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б) Вибро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ц) Хидро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паратурна масаж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200400" cy="34560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140360" y="2781360"/>
            <a:ext cx="518472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) Пнеумомасажа - синкардијалн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б) Вибромасаж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ц) Хидромасажа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хидрокинетичке процедуре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40:59Z</dcterms:created>
  <dc:creator>WIN98SE</dc:creator>
  <dc:description/>
  <dc:language>en-US</dc:language>
  <cp:lastModifiedBy>katarinaparezanovicilic@gmail.com</cp:lastModifiedBy>
  <dcterms:modified xsi:type="dcterms:W3CDTF">2020-09-26T16:59:47Z</dcterms:modified>
  <cp:revision>15</cp:revision>
  <dc:subject/>
  <dc:title>MEHANOTERAPIJA </dc:title>
</cp:coreProperties>
</file>